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4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5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B4774-8946-41CA-82FD-F02D9060B8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9E949-5AE3-47FE-BBCC-01A000B9894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E5D7E-EB81-4902-956C-8992D10729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0486F-9EDC-4E49-A86A-F246DCEA92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4F15B-DAD5-4652-83B3-7DCB6099A0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C3C29-52D4-423E-912F-E0C58AB41E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7E004-D0B7-488B-AC5E-5D7A72FB64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B9276-D9A1-44D3-A3FC-6EEA23A4AC0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20A94-F14F-493F-AC5D-2D4110EE772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E1B4D-D8D7-4EDA-B6C6-C53DF8AA442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A8A7F-E084-4A29-BB73-C1DC8672D4C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33273-182E-4FBE-A025-45AE42CDB5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03350-2F55-41FA-BCF2-EC56824CF09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099CD-85D1-4C49-AB10-4B58ED90433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5A0A1-6999-4A38-B27F-D605CE48A62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973A2-34A6-4CE7-A07A-8F9E735EF99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F3ED7-85D2-47D7-8701-F1E5938439F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F4F80-A86F-4AFC-9609-B294D70320C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02CEF-2EC6-45A2-8B68-8AB4C170297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CFB9A-9A77-4A37-A659-8DDED5B5872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9DD30-A8D5-40CE-AE6A-3F5194272C1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CE180-0F7C-437A-B8C4-792C1666CFB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1055D-F83F-45C8-8F4B-0B200514759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7F77A-F505-4DD9-AD18-990638774B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55335-7DFB-487C-AEB7-090BFA2126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8797E-85A0-4589-8E07-9291D4BAAE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631000" y="6421320"/>
            <a:ext cx="5688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B4B95-7E77-47BB-91C4-7C9574E4F5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grpSp>
        <p:nvGrpSpPr>
          <p:cNvPr id="39" name="Group 3"/>
          <p:cNvGrpSpPr/>
          <p:nvPr/>
        </p:nvGrpSpPr>
        <p:grpSpPr>
          <a:xfrm>
            <a:off x="2327400" y="5987880"/>
            <a:ext cx="3943080" cy="606600"/>
            <a:chOff x="2327400" y="5987880"/>
            <a:chExt cx="3943080" cy="606600"/>
          </a:xfrm>
        </p:grpSpPr>
        <p:pic>
          <p:nvPicPr>
            <p:cNvPr id="40" name="Picture 4" descr=""/>
            <p:cNvPicPr/>
            <p:nvPr/>
          </p:nvPicPr>
          <p:blipFill>
            <a:blip r:embed="rId4"/>
            <a:stretch/>
          </p:blipFill>
          <p:spPr>
            <a:xfrm>
              <a:off x="5162400" y="6121800"/>
              <a:ext cx="110808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5" descr=""/>
            <p:cNvPicPr/>
            <p:nvPr/>
          </p:nvPicPr>
          <p:blipFill>
            <a:blip r:embed="rId5"/>
            <a:stretch/>
          </p:blipFill>
          <p:spPr>
            <a:xfrm>
              <a:off x="3222720" y="6168600"/>
              <a:ext cx="1561320" cy="24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Picture 6" descr=""/>
            <p:cNvPicPr/>
            <p:nvPr/>
          </p:nvPicPr>
          <p:blipFill>
            <a:blip r:embed="rId6"/>
            <a:stretch/>
          </p:blipFill>
          <p:spPr>
            <a:xfrm>
              <a:off x="2327400" y="5987880"/>
              <a:ext cx="511200" cy="606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sldNum" idx="2"/>
          </p:nvPr>
        </p:nvSpPr>
        <p:spPr>
          <a:xfrm>
            <a:off x="8706960" y="64213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18DD0-06E8-44AA-A0CF-6A594592D9C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"/>
          <p:cNvSpPr/>
          <p:nvPr/>
        </p:nvSpPr>
        <p:spPr>
          <a:xfrm>
            <a:off x="0" y="21337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4" descr="AR_WA_partners.jpg"/>
          <p:cNvPicPr/>
          <p:nvPr/>
        </p:nvPicPr>
        <p:blipFill>
          <a:blip r:embed="rId4"/>
          <a:stretch/>
        </p:blipFill>
        <p:spPr>
          <a:xfrm>
            <a:off x="1295280" y="3809880"/>
            <a:ext cx="6782040" cy="24717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684360" y="175212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925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ational Stakeholders’ Consultation Meeting on Livestock for Africa RISING Phase 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1"/>
          <p:cNvSpPr/>
          <p:nvPr/>
        </p:nvSpPr>
        <p:spPr>
          <a:xfrm>
            <a:off x="1835280" y="465300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uidelines for Group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380880" y="198864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st of priority research for development livestock issues for Africa RISING Phase 2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ree to four livestock technologies for sca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y actors to be involved in the implementation of livestock related activities in Phase 2 are identified and their potential contribu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raft logical framework with activities based on Phase 2 proposa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76201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Expected Outputs from Group Wor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68360" y="177336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will be 3 groups of about 8 persons per gro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Group 1: Leader: Dr Emmanuel Adu; Rapporteur: Dr Addah Wese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Group 2: Leader: Prof Emmanuel Osafo; Rapporteur: Mr Sadat Salif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Group 3: Leader: Dr Victoria Attoh-Kotoku; Rapporteur: Mr Solomon Kon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" y="1988640"/>
            <a:ext cx="77724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istency with the Africa RISING project objectives for Phase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ientific sound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easibility (in terms of design, time and budge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ffing capac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alability and potential impa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tnership requir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engthening crop-livestock integ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8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nkage with human nutr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2184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Criteria for identification of priority issu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1988640"/>
            <a:ext cx="77724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 can score each livestock issue or thematic identified using the six criteria above on the scale of 0 (None/Poor) to 10 (Very High/Excellen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72316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Scoring of different proposed livestock issu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250920" y="3357720"/>
          <a:ext cx="8723160" cy="2371680"/>
        </p:xfrm>
        <a:graphic>
          <a:graphicData uri="http://schemas.openxmlformats.org/drawingml/2006/table">
            <a:tbl>
              <a:tblPr/>
              <a:tblGrid>
                <a:gridCol w="720720"/>
                <a:gridCol w="1079280"/>
                <a:gridCol w="936720"/>
                <a:gridCol w="1008000"/>
                <a:gridCol w="792360"/>
                <a:gridCol w="1008000"/>
                <a:gridCol w="1152360"/>
                <a:gridCol w="1079640"/>
                <a:gridCol w="946080"/>
              </a:tblGrid>
              <a:tr h="36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ss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coring based on selected crite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istenc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ientific qua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asi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ffing capac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ala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tnershi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-L integr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uman nutri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814716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Key points from Phase 2 Proposal on Livest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71600" y="2054160"/>
            <a:ext cx="7772400" cy="43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generic research will complete the loose ends of research on the Sustainable Intensification innovations in phase I as follow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oaden and strengthen partnerships particularly with the private s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cument adequately research outputs through publication of technical and non-technical repor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 a livestock research strategy to increase visibility of livestock-related activities especially those about small ruminants and pi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814716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Key points from Phase 2 Proposal on Livest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71600" y="2054160"/>
            <a:ext cx="7772400" cy="43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generic research will complete the loose ends of research on the Sustainable Intensification innovations in phase I as follow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 more linkages between crop-livestock diversification and human nutr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ek opportunities to link adaptive research with agricultural development projects to add value/complement their activities, and to scale-out tested and validated SI innovations identified from phase I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762012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New Research areas in Phas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2027160"/>
            <a:ext cx="8348760" cy="43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hase II will also explore new research areas and utilization of tools emerging from phase I, identified as follow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engthen crop-livestock integration involving different livestock spe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engthen post-harvest management and value addition, and demonstration of proven technologi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aluate small-scale mechanization (labor-savi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y more attention to climate-smart-agriculture pack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lore the potential of dairy goats and milk processing for improved nutrition and income generatio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250920" y="1218960"/>
            <a:ext cx="864216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107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Logframe– Livestock related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250920" y="1785960"/>
          <a:ext cx="8497800" cy="4738680"/>
        </p:xfrm>
        <a:graphic>
          <a:graphicData uri="http://schemas.openxmlformats.org/drawingml/2006/table">
            <a:tbl>
              <a:tblPr/>
              <a:tblGrid>
                <a:gridCol w="2174760"/>
                <a:gridCol w="2239920"/>
                <a:gridCol w="2163960"/>
                <a:gridCol w="1919160"/>
              </a:tblGrid>
              <a:tr h="107460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ject Outcome 1: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Productivity and resilience of smallholder crop-livestock systems in the Guinea and Sudan savanna zones of West Africa increase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25720">
                <a:tc gridSpan="4">
                  <a:txBody>
                    <a:bodyPr lIns="65160" rIns="651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UTPUT 1.1 Options for more intensive, diversified, productive, and resilient crop-livestock systems valida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200">
                <a:tc>
                  <a:txBody>
                    <a:bodyPr lIns="65160" rIns="651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CTIV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BJECTIVELY VERIFIABLE INDICATO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marL="9036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EANS/SOURCE OF VERIFI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MPORTANT ASSUMPTION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86040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ctivity 1.1.1: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valuate and disseminate climate-resilient cropping and livestock systems to reduce risk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marL="9036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0336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ctivity 1.1.2: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est and disseminate a combination of improved breeds, housing, feeding, health and breeding management practices to intensify livestock (sheep, goat, pig, and poultry) production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440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ctivity 1.1.3: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troduce and evaluate dairy breeds of goats and sheep for milk produc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9T10:36:32Z</dcterms:created>
  <dc:creator>IZeledon</dc:creator>
  <dc:description/>
  <dc:language>en-US</dc:language>
  <cp:lastModifiedBy>AA</cp:lastModifiedBy>
  <cp:lastPrinted>2011-10-06T11:45:23Z</cp:lastPrinted>
  <dcterms:modified xsi:type="dcterms:W3CDTF">2016-11-14T17:30:58Z</dcterms:modified>
  <cp:revision>59</cp:revision>
  <dc:subject/>
  <dc:title>Slide 1</dc:title>
</cp:coreProperties>
</file>